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06E-0EE3-4A5B-BA43-BAF6F4D7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2C3-D0CA-49F0-9E21-B7C7F31F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00D-9E2B-447E-B81B-4F3537B3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171-55D2-4A16-969A-AB9B53AC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621-3C3F-4BE5-9371-0A3F220C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8ED-7E1B-4940-B342-D3213225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ACD-8434-48BB-BE9D-F3312756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A5B-EC0A-46A1-8FC8-1BE4EE66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9A9-5047-4FD4-A077-209B995D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723-DD5C-493F-94BE-5440F361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B7D-377E-4633-98FE-1220285A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D95-2261-412E-A453-4BEB2641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F1F-8330-4597-A41A-8A0AF8DEF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vosibirsk,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Bailey, A.C., and E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77880"/>
            <a:ext cx="9144000" cy="5500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" y="0"/>
            <a:ext cx="90928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68160"/>
            <a:ext cx="9144000" cy="5521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920"/>
            <a:ext cx="9144000" cy="6842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47760" y="0"/>
            <a:ext cx="66484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03320" y="0"/>
            <a:ext cx="7137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360"/>
            <a:ext cx="9144000" cy="683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57480" y="0"/>
            <a:ext cx="4829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00:52Z</dcterms:created>
  <dc:creator>baileygardner</dc:creator>
  <dc:description/>
  <dc:language>en-US</dc:language>
  <cp:lastModifiedBy>baileygardner</cp:lastModifiedBy>
  <dcterms:modified xsi:type="dcterms:W3CDTF">2008-11-24T14:00:59Z</dcterms:modified>
  <cp:revision>1</cp:revision>
  <dc:subject/>
  <dc:title>Novosibirsk, Russia</dc:title>
</cp:coreProperties>
</file>